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120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99880" y="704880"/>
            <a:ext cx="4699080" cy="352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09560" y="4464000"/>
            <a:ext cx="568008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892620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1200" y="892620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036D-85A3-44D4-ABC5-12F1AFC9D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9560" y="4464000"/>
            <a:ext cx="56800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021200" y="89265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DED7-8757-471D-97B5-B5CD70A0F0D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61D-C2DB-48CA-8F06-1ABF0A7B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63CC-563F-45F5-A874-F9D8E677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583-7C59-4E6B-B2F5-89D65BAF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CD3F-83A7-48D6-8E6B-01A620D8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0EDD-744C-4CFD-A5B8-5E242B7E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1403-EA92-4D58-8DF8-BEBA7475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2408-2AD2-4616-9EFA-44D11163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BC09-8E3C-4820-8947-B5A01341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92E8-9E75-40E2-8113-75019287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37FF-FA5A-4445-988E-E5FE1722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2614-30FF-4765-A0C4-BCDCE6EC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DA47-1D63-4899-9BA7-1B6D8977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ACB5-1816-4E31-842F-C71D6DAD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5F72-DF76-4A84-A8AC-D4D3234D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948C-AB0D-4ABD-AF58-1759C8A9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9DB3-4C37-43FB-8CDA-C842C6C1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746F-93AC-4930-B706-7482F171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752-EBA4-4D12-96E6-89B171CC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9F15-1200-4661-9EBA-E87CFED4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A5F5-4501-407C-B8A9-17B775E1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EBF-D417-4C5E-AAE8-EBD2B3C3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632-4807-4E09-BDF2-01BF3BDC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9AD6-A86F-44CA-852E-671146BA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B03B-59D7-4F75-9FEF-44739F4E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3811-AC31-4D31-8DC6-7473B4EB29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16F6-6FE6-4149-8125-C0E978D539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Practices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ch 2011 Up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SFE Industry Snap Sho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venues: next 6 months compared to previous 6 month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Chart 4" descr=""/>
          <p:cNvPicPr/>
          <p:nvPr/>
        </p:nvPicPr>
        <p:blipFill>
          <a:blip r:embed="rId1"/>
          <a:stretch/>
        </p:blipFill>
        <p:spPr>
          <a:xfrm>
            <a:off x="378000" y="1596960"/>
            <a:ext cx="85406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ow do you feel about the economy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Chart 5" descr=""/>
          <p:cNvPicPr/>
          <p:nvPr/>
        </p:nvPicPr>
        <p:blipFill>
          <a:blip r:embed="rId1"/>
          <a:stretch/>
        </p:blipFill>
        <p:spPr>
          <a:xfrm>
            <a:off x="378000" y="1517760"/>
            <a:ext cx="84675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trategic Plan (written)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Do you have one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" name="Chart 3" descr=""/>
          <p:cNvPicPr/>
          <p:nvPr/>
        </p:nvPicPr>
        <p:blipFill>
          <a:blip r:embed="rId1"/>
          <a:stretch/>
        </p:blipFill>
        <p:spPr>
          <a:xfrm>
            <a:off x="755640" y="1670040"/>
            <a:ext cx="77058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as it been revised since the downturn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Chart 3" descr=""/>
          <p:cNvPicPr/>
          <p:nvPr/>
        </p:nvPicPr>
        <p:blipFill>
          <a:blip r:embed="rId1"/>
          <a:stretch/>
        </p:blipFill>
        <p:spPr>
          <a:xfrm>
            <a:off x="682560" y="1596960"/>
            <a:ext cx="76262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 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99"/>
              </a:spcBef>
              <a:buClr>
                <a:srgbClr val="ffcc66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255600">
              <a:spcBef>
                <a:spcPts val="601"/>
              </a:spcBef>
              <a:buClr>
                <a:srgbClr val="ffcc66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load increasing, particularly in private sec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5600">
              <a:spcBef>
                <a:spcPts val="601"/>
              </a:spcBef>
              <a:buClr>
                <a:srgbClr val="ffcc66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0% indicate increased proposal activity; 12% report decre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5600">
              <a:spcBef>
                <a:spcPts val="601"/>
              </a:spcBef>
              <a:buClr>
                <a:srgbClr val="ffcc66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0% indicating increasing or stable revenue; 43% last y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5600">
              <a:spcBef>
                <a:spcPts val="601"/>
              </a:spcBef>
              <a:buClr>
                <a:srgbClr val="ffcc66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0% indicate increasing or stable staff; 60% last y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5600">
              <a:spcBef>
                <a:spcPts val="601"/>
              </a:spcBef>
              <a:buClr>
                <a:srgbClr val="ffcc66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% of respondents expect more layoffs; 22% last y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5600">
              <a:spcBef>
                <a:spcPts val="601"/>
              </a:spcBef>
              <a:buClr>
                <a:srgbClr val="ffcc66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0% expect revenues to increase or stay the same; 60% last y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5600">
              <a:spcBef>
                <a:spcPts val="601"/>
              </a:spcBef>
              <a:buClr>
                <a:srgbClr val="ffcc66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1% pessimistic about the econo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5600">
              <a:spcBef>
                <a:spcPts val="601"/>
              </a:spcBef>
              <a:buClr>
                <a:srgbClr val="ffcc66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0% have a strategic pla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65000" indent="-255240">
              <a:spcBef>
                <a:spcPts val="499"/>
              </a:spcBef>
              <a:buClr>
                <a:srgbClr val="ffff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0% have upd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255600">
              <a:spcBef>
                <a:spcPts val="499"/>
              </a:spcBef>
              <a:buClr>
                <a:srgbClr val="ffcc66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9528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Practice Committ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57200" y="3505320"/>
            <a:ext cx="8686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buClr>
                <a:srgbClr val="ffcc66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napshots every 6 months prior to bi-annual meet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lease respond to the surve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8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anks for listen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n-Line Survey Respon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9903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eys confidential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data on firm size or prof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inion survey – non-scienti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happened in the last 6 month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will happen in the next 6 month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Chart 6" descr=""/>
          <p:cNvPicPr/>
          <p:nvPr/>
        </p:nvPicPr>
        <p:blipFill>
          <a:blip r:embed="rId1"/>
          <a:stretch/>
        </p:blipFill>
        <p:spPr>
          <a:xfrm>
            <a:off x="-6480" y="4260960"/>
            <a:ext cx="915696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did the responses come from?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533520" y="1265400"/>
            <a:ext cx="792468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n the last 6 months, what trends have you seen in workload in these areas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3" name="Chart 4" descr=""/>
          <p:cNvPicPr/>
          <p:nvPr/>
        </p:nvPicPr>
        <p:blipFill>
          <a:blip r:embed="rId1"/>
          <a:stretch/>
        </p:blipFill>
        <p:spPr>
          <a:xfrm>
            <a:off x="298440" y="1365120"/>
            <a:ext cx="86202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Number of proposals your firm has been asked to submit in the last 6 months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Chart 3" descr=""/>
          <p:cNvPicPr/>
          <p:nvPr/>
        </p:nvPicPr>
        <p:blipFill>
          <a:blip r:embed="rId1"/>
          <a:stretch/>
        </p:blipFill>
        <p:spPr>
          <a:xfrm>
            <a:off x="298440" y="1444680"/>
            <a:ext cx="854712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venue: The last 6 month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Chart 3" descr=""/>
          <p:cNvPicPr/>
          <p:nvPr/>
        </p:nvPicPr>
        <p:blipFill>
          <a:blip r:embed="rId1"/>
          <a:stretch/>
        </p:blipFill>
        <p:spPr>
          <a:xfrm>
            <a:off x="225360" y="1292400"/>
            <a:ext cx="86932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aff: The last 6 month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Chart 4" descr=""/>
          <p:cNvPicPr/>
          <p:nvPr/>
        </p:nvPicPr>
        <p:blipFill>
          <a:blip r:embed="rId1"/>
          <a:stretch/>
        </p:blipFill>
        <p:spPr>
          <a:xfrm>
            <a:off x="298440" y="1212840"/>
            <a:ext cx="86202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yoffs: The last 6 month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Chart 4" descr=""/>
          <p:cNvPicPr/>
          <p:nvPr/>
        </p:nvPicPr>
        <p:blipFill>
          <a:blip r:embed="rId1"/>
          <a:stretch/>
        </p:blipFill>
        <p:spPr>
          <a:xfrm>
            <a:off x="378000" y="1292400"/>
            <a:ext cx="877248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pect more layoffs in next 6 month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Chart 4" descr=""/>
          <p:cNvPicPr/>
          <p:nvPr/>
        </p:nvPicPr>
        <p:blipFill>
          <a:blip r:embed="rId1"/>
          <a:stretch/>
        </p:blipFill>
        <p:spPr>
          <a:xfrm>
            <a:off x="298440" y="1365120"/>
            <a:ext cx="86202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20:30:19Z</dcterms:created>
  <dc:creator>Gordon Matheson</dc:creator>
  <dc:description/>
  <dc:language>en-US</dc:language>
  <cp:lastModifiedBy>sosgood</cp:lastModifiedBy>
  <dcterms:modified xsi:type="dcterms:W3CDTF">2011-04-04T22:34:51Z</dcterms:modified>
  <cp:revision>227</cp:revision>
  <dc:subject/>
  <dc:title>Industry Snap Shot</dc:title>
</cp:coreProperties>
</file>