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813-4448-4CC6-953E-BFBE929F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832-3B92-4980-86F0-F81BC98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E9E-BB3F-4211-916B-612F6995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8BB-1849-403F-9BD7-AE90E381A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02D-32D5-453A-9CE2-C9A88E21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9B3-9D3A-4818-BC5C-198659EA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F5A-ECC0-4BFF-9E3D-EE20117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F01-2A67-4DA2-861A-23F7576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9CD-5049-47AB-9D31-6ACEB16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589-E1B8-4B01-B015-7B9F8108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8EE1-9F9B-4F05-93A0-EF1EF7A2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046-BAE3-4CB3-B54C-57672A66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C554-F6D5-40B1-9236-52B16C642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ALUE ADDED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FIRST and LA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28954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E HISTORY FOR GEOTECHNICAL ENGINEERING ADDING VALUE TO A BUILDING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T. Lustig, P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technical Servic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ical Pi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rcRect l="4474" t="12224" r="6088" b="6665"/>
          <a:stretch/>
        </p:blipFill>
        <p:spPr>
          <a:xfrm>
            <a:off x="1922400" y="609480"/>
            <a:ext cx="51357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362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technical Engineering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and GSI conducted full scale load tests of each pile type at two locations within th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geotechnical engineering combined with load test analysis assured safe and economical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unce of Prevention is Worth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485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initial building cost: $5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micropile installation cost: $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floor replacement/topping cost: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d administrative costs: $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medial work performed nights and weekends - spanned 6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lue of Geotechnical Engineering to Building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initial geotechnical investigation added risk and cost to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helical micropiles allowed client to beat schedule in some areas – CM and Client apprec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scale load tests assured safe design –SE was satis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lue of Geotechnical Engineering to Building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tests provided basis for quality control during remediation – helped Testing Agency mee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geotechnical engineering provided economical micropile designs - helped Client make his b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ding Value to Building 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scription /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ole of Geotechnical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Value Added to this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X Description &amp;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Story, Slab-On-Grade, Precast Concrete Wall Pa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,000 square feet, structure completed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otechnical investigation performed befor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oundations supported on 2 - 3 feet of granular structural back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X Description &amp;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years after completion, building floors settle 3” to 4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tructure shows little evidence of di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investigations reveal layer of man-made fill and organic materials to 15 feet below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7001" t="0" r="2325" b="23409"/>
          <a:stretch/>
        </p:blipFill>
        <p:spPr>
          <a:xfrm>
            <a:off x="0" y="457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posed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dial solution was to install over 300 micropiles extended to underlying bearing stra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part of existing floors and support on microp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part of existing floors on micropiles and apply top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technical Engineering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485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or won project based on conventional micropi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retained GSI to provide design and testing to meet specifications for two conditions, floors and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I approached design using a grouted pin pile and a helical 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960" t="11113" r="5388" b="948"/>
          <a:stretch/>
        </p:blipFill>
        <p:spPr>
          <a:xfrm>
            <a:off x="2057400" y="609480"/>
            <a:ext cx="4921200" cy="6183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2920" y="5791320"/>
            <a:ext cx="1752480" cy="831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3657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il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3612" r="0" b="4833"/>
          <a:stretch/>
        </p:blipFill>
        <p:spPr>
          <a:xfrm>
            <a:off x="2514600" y="0"/>
            <a:ext cx="56181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6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21:28:58Z</dcterms:created>
  <dc:creator> </dc:creator>
  <dc:description/>
  <dc:language>en-US</dc:language>
  <cp:lastModifiedBy> </cp:lastModifiedBy>
  <dcterms:modified xsi:type="dcterms:W3CDTF">2011-03-30T22:46:18Z</dcterms:modified>
  <cp:revision>5</cp:revision>
  <dc:subject/>
  <dc:title>SETTLEMENT HAS  TWO MEANINGS:</dc:title>
</cp:coreProperties>
</file>