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EFD7-66A4-4ED2-8909-44D3B133E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C64A-D430-4B4B-998F-57451EB3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7BBE-4074-4733-8C97-1B46F5D96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7858-5320-4D8D-8D64-3EB8FCE8D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459BC-8DB1-44C2-BE6E-B7558BCF1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9F69-3030-45C3-9246-53DA444F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1767-8A45-4609-A592-1B065B3D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4730-B1B0-48B5-AC42-9A0AE830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0496-D4DF-4194-8E41-01B78F59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1170-398A-4233-B683-97F8F837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6DE1-ED8C-41F2-A248-9F83D702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0F6A-FE2D-4752-BCF4-FEECFEF2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44075-8DEF-42E8-93C5-2068E075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4444-F3A9-431E-A92D-2F22C012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55E26-DAE4-466E-89F3-7FDDED9B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600A-1F85-435F-A06D-521199E6F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A6C2-5FAE-4EBB-9C75-96F2622A9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CC9F-901C-445E-ACDC-CECFCF30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702D-9956-4641-89B1-5E5032D5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2034-5447-4D1F-8AB9-9F842A19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2DD0-4D2C-428D-9C62-990601C6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529E-EE84-456A-B76F-1CB77B39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5820-C69A-4406-B219-80FF0940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4A0F-E975-47C3-8E19-22AD1F6B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76A9-B30E-428C-A177-4672F33C01B8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C2B2-C031-4C20-B19C-13E73131A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E67E-5DFA-477F-963F-DE6FADE06383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F5D9-6CBF-4E05-A259-D29C1120D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astm.org/" TargetMode="External"/><Relationship Id="rId2" Type="http://schemas.openxmlformats.org/officeDocument/2006/relationships/hyperlink" Target="mailto:rmorgan@astm.org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0418-6EBA-46C2-AB3B-D4CB9ACC3F78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3E6F-1053-450A-8E0A-55DF352C7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8458200" cy="62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ASTM and the Geoprofessional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tion to ASFE April 8, 2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bert J. Mor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r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ical Committee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Object 9"/>
          <p:cNvGraphicFramePr/>
          <p:nvPr/>
        </p:nvGraphicFramePr>
        <p:xfrm>
          <a:off x="838080" y="2286000"/>
          <a:ext cx="287496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86000"/>
                    <a:ext cx="287496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68C6-6860-4C3D-AF64-E4EE2DBCD70F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DB86-0FB6-4875-A4EA-35B01D10D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The ASTM Structure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,000 Memb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4 countries repres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0 industry sectors repres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35 Technical committ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00 Subcommitt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ousands of task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865A-E899-4235-97A3-2616EFA5942A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484A-627B-4952-9AEF-C7DDEFE45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ommittee Component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2133360"/>
            <a:ext cx="4267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 level of standards development with five to seven “expert” individu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ommitt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r group of individuals with a specific title and scope approved by the committee’s Executive Subcommitt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l rosters are mainta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level of formal ballo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29200" y="2133720"/>
            <a:ext cx="4114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Commit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group with broader inter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tle and scope are approved by the ASTM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l roster is mainta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sts of all related subcommittees, administrative subcommittees, and an executive subcommitt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775D-7DD2-408E-B309-A96F21E1764E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205C-E6FC-4A34-BAE1-3C43C6B8F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15328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Standards Development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s are developed using a ballot process to achieve consens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ommittee Ball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Committee Ball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ety 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ittee on 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641F-B89D-440B-B055-C67E61C52558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14DE-F01A-4B2A-AD9F-2528DBE55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ASTM’s Balloting Process 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1" name="Line 4"/>
          <p:cNvSpPr/>
          <p:nvPr/>
        </p:nvSpPr>
        <p:spPr>
          <a:xfrm>
            <a:off x="1066680" y="2895480"/>
            <a:ext cx="251460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5"/>
          <p:cNvSpPr/>
          <p:nvPr/>
        </p:nvSpPr>
        <p:spPr>
          <a:xfrm flipV="1">
            <a:off x="3581280" y="2895480"/>
            <a:ext cx="243864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6"/>
          <p:cNvSpPr/>
          <p:nvPr/>
        </p:nvSpPr>
        <p:spPr>
          <a:xfrm>
            <a:off x="1066680" y="2895480"/>
            <a:ext cx="495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7"/>
          <p:cNvSpPr/>
          <p:nvPr/>
        </p:nvSpPr>
        <p:spPr>
          <a:xfrm>
            <a:off x="2590920" y="48769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1981080" y="4114800"/>
            <a:ext cx="312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9"/>
          <p:cNvSpPr/>
          <p:nvPr/>
        </p:nvSpPr>
        <p:spPr>
          <a:xfrm>
            <a:off x="1447920" y="3429000"/>
            <a:ext cx="419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3336840" y="4952880"/>
            <a:ext cx="606600" cy="45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2971800" y="19051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2819520" y="2971800"/>
            <a:ext cx="1600200" cy="459720"/>
          </a:xfrm>
          <a:prstGeom prst="rect">
            <a:avLst/>
          </a:prstGeom>
          <a:solidFill>
            <a:srgbClr val="7fa4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3124080" y="3581280"/>
            <a:ext cx="990720" cy="45972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4"/>
          <p:cNvSpPr/>
          <p:nvPr/>
        </p:nvSpPr>
        <p:spPr>
          <a:xfrm>
            <a:off x="2666880" y="4267080"/>
            <a:ext cx="2057400" cy="398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ubcommitt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8"/>
          <p:cNvSpPr/>
          <p:nvPr/>
        </p:nvSpPr>
        <p:spPr>
          <a:xfrm>
            <a:off x="5410080" y="3505320"/>
            <a:ext cx="306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in Committ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60% return; 90% affirm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9"/>
          <p:cNvSpPr/>
          <p:nvPr/>
        </p:nvSpPr>
        <p:spPr>
          <a:xfrm>
            <a:off x="5013360" y="4191120"/>
            <a:ext cx="28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ubcommitt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60% return; 2/3 affirm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20"/>
          <p:cNvSpPr/>
          <p:nvPr/>
        </p:nvSpPr>
        <p:spPr>
          <a:xfrm>
            <a:off x="4327560" y="5029200"/>
            <a:ext cx="352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G – draft developme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 formal ballo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22"/>
          <p:cNvSpPr/>
          <p:nvPr/>
        </p:nvSpPr>
        <p:spPr>
          <a:xfrm>
            <a:off x="3200400" y="2362320"/>
            <a:ext cx="91440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23"/>
          <p:cNvSpPr/>
          <p:nvPr/>
        </p:nvSpPr>
        <p:spPr>
          <a:xfrm>
            <a:off x="4407120" y="2322360"/>
            <a:ext cx="377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sures due process is afforded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particip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24"/>
          <p:cNvSpPr/>
          <p:nvPr/>
        </p:nvSpPr>
        <p:spPr>
          <a:xfrm>
            <a:off x="5931720" y="2932200"/>
            <a:ext cx="23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al level of appro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E483-2CF0-46EE-A991-955871268B60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0F27-9CAE-416E-BB50-CF7F974EE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15328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C24E-5A91-400C-BD87-8F6D8A5A9C0A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341F-A9AC-442D-BC60-E23AA8716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15328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8667-D143-4F6F-B85D-7AFA461C9D14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7E5C-F9E5-451D-AB35-B9ED10F16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15328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149B-6FDC-4418-B49E-DEB36BD4B26D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9740-6148-4E56-8E5D-B4E88C663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Negatives and Comment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ingle negative vote from an individual member (at any ballot level) stops the item from moving for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negatives and comments must be add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resolved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suasive – results in change to draft; re-ballo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dra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drawn with editorial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-persua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re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nts may result in editorial change or future re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7603-9433-4441-9D17-9A20BD3236D1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F7E5-4A54-4A7C-9795-B4417A60B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Timeframe for Development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= 6 - 18 mon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endent on need, urgency and commitment of volunte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onic tools continue to shorten development time throug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ine Ballo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aboration A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rtual Meet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5855-87A3-4A14-8AAA-AC4D224523DC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2587-3812-41E7-B905-83EFE65D1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osts for Participation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75 Annual Membership Fee (allows member to join as many committees as need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e-to-face meetings typically twice per 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ndance not required for active particip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brid meeting capabilities via Web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A8B0-26E2-4A07-9A12-5CBEB041A05C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4B40-0234-46C4-BA89-40BBF253B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ff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057400" y="228600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to ASTM Interna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1181-0C6C-42A6-ABD9-5B666480FDD6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BF90-32CB-4A07-B0A2-714087B1C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Benefits of Participation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e Volume of the AST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ook of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ing Opport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contact with professionals from around the wor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t with business competitors and customers on a cooperative technical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to contact information of other participants on your technical commit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hip 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nstrate your leadership qualities and technical expertise by contributing to the development of high quality, market relevant standar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BE81-699C-4171-9D7F-73BA135792D2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AA68-A0EB-4A46-B93F-8C1000F40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ASTM Publication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,000+ standards published annu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ed pub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urnals, manuals, compilations, data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Technical Publications (peer-reviewed collection of symposia pap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762120" y="4572000"/>
            <a:ext cx="7924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C5EB-318E-4430-8C9C-C4242012CC5C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D184-44A7-4753-8A5F-0F1157D88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Technical Programs &amp; Services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posia and worksh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ical and Professional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on the application and implementation of ASTM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ciency Test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ssing performance through comparison of results with other laboratories worldw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rtification - for industries that desire an independent third party demonstration of compliance to standards and/or are facing regulatory pressures to prove compliance to standard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 (material, products, systems, and service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B8F7-8B28-499C-B6F2-18C3C95913B5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DEDA-772E-4FE4-BA41-DE8B8EE6E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For More Information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TM web site – </a:t>
            </a:r>
            <a:r>
              <a:rPr b="0" lang="en-US" sz="32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www.astm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J. Morgan </a:t>
            </a:r>
            <a:r>
              <a:rPr b="0" lang="en-US" sz="32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rmorgan@astm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7" descr="globe-europe"/>
          <p:cNvPicPr/>
          <p:nvPr/>
        </p:nvPicPr>
        <p:blipFill>
          <a:blip r:embed="rId3"/>
          <a:stretch/>
        </p:blipFill>
        <p:spPr>
          <a:xfrm>
            <a:off x="2362320" y="3124080"/>
            <a:ext cx="358128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0F6B-F6B0-4DA9-B5BB-66AC135BFFFB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1BF2-6453-4A22-845A-B07754454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About ASTM International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ed in 18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pendent, private sector, not-for-profit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a management system and the administrative framework for the development of voluntary, consensus standards and promotion of related 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F8C3-3304-44E9-A310-28118096A7B4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2E6E-8242-4829-9702-90CA8B8F6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ASTM’s Mission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evelopment and distribution of voluntary consensus standards, and related technical information, which demonstrate a high degree of technical quality and global market rele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rcRect l="4124" t="7285" r="6250" b="21022"/>
          <a:stretch/>
        </p:blipFill>
        <p:spPr>
          <a:xfrm>
            <a:off x="4572000" y="4038480"/>
            <a:ext cx="442260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9696-E61D-4814-91DD-5C53F656533A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04FA-F967-47F3-BC2D-DB8B3363E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ASTM Serves Multiple Sector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3505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troleum and Lubric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ion Materia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umer 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2741760" cy="4190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"/>
          <p:cNvPicPr/>
          <p:nvPr/>
        </p:nvPicPr>
        <p:blipFill>
          <a:blip r:embed="rId2"/>
          <a:srcRect l="0" t="6040" r="53260" b="4409"/>
          <a:stretch/>
        </p:blipFill>
        <p:spPr>
          <a:xfrm>
            <a:off x="7086600" y="1905120"/>
            <a:ext cx="1817640" cy="2327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"/>
          <p:cNvPicPr/>
          <p:nvPr/>
        </p:nvPicPr>
        <p:blipFill>
          <a:blip r:embed="rId3"/>
          <a:srcRect l="0" t="0" r="40269" b="0"/>
          <a:stretch/>
        </p:blipFill>
        <p:spPr>
          <a:xfrm>
            <a:off x="4800600" y="4622760"/>
            <a:ext cx="178128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969F-1492-4102-8B9B-998A5638D839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78B9-3095-486C-9195-7577DFAD3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ASTM Standards are Voluntary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360" y="20570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d voluntar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voluntar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datory only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ted in a contractual agreemen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d by a government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5334120" y="2362320"/>
            <a:ext cx="2438280" cy="1625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9" name="Picture 5" descr=""/>
          <p:cNvPicPr/>
          <p:nvPr/>
        </p:nvPicPr>
        <p:blipFill>
          <a:blip r:embed="rId2"/>
          <a:srcRect l="0" t="0" r="0" b="6250"/>
          <a:stretch/>
        </p:blipFill>
        <p:spPr>
          <a:xfrm>
            <a:off x="7238880" y="3886200"/>
            <a:ext cx="162576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8BC5-201F-4B14-9566-F092B2B56F2A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38FA-114B-421E-8FC0-16B17851C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ASTM and the Geoprofessional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3809880" cy="426744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18 on Soil and R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35 on Geosynthe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01 on 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07 on L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09 on Concr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12 on Mason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36 on Accreditation and Cer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343400" y="1752480"/>
            <a:ext cx="4114800" cy="426744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27 on Precast 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04 on Road and Pa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08 on Roof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50 on Environmental Assessment, Risk Management, and Corrective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6C9E-FAA5-4C74-92B8-AAD56A02F03A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C517-6EAF-4151-9780-BC316F8C9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Principles of  ASTM Standards 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3886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tr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sion of an open forum for interested stak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76920" y="2057400"/>
            <a:ext cx="4038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ness and 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who are interested or affected may 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vote per voting interest; no one interest domin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en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gulatio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 a high degree of agre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8" descr="ANd9GcRIHbrUB2C1viADDGn4nHO-nhB8Lzal_lgbTgOzfDtdBufmgLp0"/>
          <p:cNvPicPr/>
          <p:nvPr/>
        </p:nvPicPr>
        <p:blipFill>
          <a:blip r:embed="rId1"/>
          <a:stretch/>
        </p:blipFill>
        <p:spPr>
          <a:xfrm>
            <a:off x="2209680" y="3886200"/>
            <a:ext cx="22194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04C4-F1DA-4104-B4F8-658D82A5CC30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F210-09EC-4352-B416-84113FA58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ff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990360" y="1980720"/>
            <a:ext cx="74674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 of the standardization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3T17:07:04Z</dcterms:created>
  <dc:creator>smawn</dc:creator>
  <dc:description/>
  <dc:language>en-US</dc:language>
  <cp:lastModifiedBy>Kristen McNeill</cp:lastModifiedBy>
  <cp:lastPrinted>1997-08-18T13:18:30Z</cp:lastPrinted>
  <dcterms:modified xsi:type="dcterms:W3CDTF">2011-03-28T15:34:23Z</dcterms:modified>
  <cp:revision>66</cp:revision>
  <dc:subject/>
  <dc:title>ASTM - An Overview of the Society and Its Procedures</dc:title>
</cp:coreProperties>
</file>